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4D04-0960-4FB7-8DB5-B400229A648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1A0A-7C36-4247-BB43-CCF65A9CFE3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9840" y="4343400"/>
            <a:ext cx="5438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6926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WAP 2.0 content provis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lowing features are suppor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ed 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HTML MP - WML1.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CSS M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ML scrip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Push (WS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Caching Model (partl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browser provisioning (OTA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All other features comply with WAP 1.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816120" y="4216320"/>
            <a:ext cx="2611440" cy="347040"/>
            <a:chOff x="816120" y="4216320"/>
            <a:chExt cx="2611440" cy="347040"/>
          </a:xfrm>
        </p:grpSpPr>
        <p:sp>
          <p:nvSpPr>
            <p:cNvPr id="267" name=""/>
            <p:cNvSpPr/>
            <p:nvPr/>
          </p:nvSpPr>
          <p:spPr>
            <a:xfrm>
              <a:off x="816120" y="4216320"/>
              <a:ext cx="2611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0" bIns="45360" anchor="t">
              <a:spAutoFit/>
            </a:bodyPr>
            <a:p>
              <a:pPr algn="ctr">
                <a:lnSpc>
                  <a:spcPts val="2373"/>
                </a:lnSpc>
                <a:spcBef>
                  <a:spcPts val="876"/>
                </a:spcBef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6120" y="421632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6120" y="452124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6926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WAP 2.0 content provis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lowing features are suppor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ed 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HTML MP - WML1.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CSS M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ML scrip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Push (WS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Caching Model (partl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browser provisioning (OTA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All other features comply with WAP 1.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816120" y="4216320"/>
            <a:ext cx="2611440" cy="347040"/>
            <a:chOff x="816120" y="4216320"/>
            <a:chExt cx="2611440" cy="347040"/>
          </a:xfrm>
        </p:grpSpPr>
        <p:sp>
          <p:nvSpPr>
            <p:cNvPr id="273" name=""/>
            <p:cNvSpPr/>
            <p:nvPr/>
          </p:nvSpPr>
          <p:spPr>
            <a:xfrm>
              <a:off x="816120" y="4216320"/>
              <a:ext cx="2611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0" bIns="45360" anchor="t">
              <a:spAutoFit/>
            </a:bodyPr>
            <a:p>
              <a:pPr algn="ctr">
                <a:lnSpc>
                  <a:spcPts val="2373"/>
                </a:lnSpc>
                <a:spcBef>
                  <a:spcPts val="876"/>
                </a:spcBef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6120" y="421632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6120" y="452124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6926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information available in the “AD Products” fol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 is child’s play thanks to the attractive accessories, also excellent ARPU-dri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816120" y="4216320"/>
            <a:ext cx="2611440" cy="347040"/>
            <a:chOff x="816120" y="4216320"/>
            <a:chExt cx="2611440" cy="347040"/>
          </a:xfrm>
        </p:grpSpPr>
        <p:sp>
          <p:nvSpPr>
            <p:cNvPr id="279" name=""/>
            <p:cNvSpPr/>
            <p:nvPr/>
          </p:nvSpPr>
          <p:spPr>
            <a:xfrm>
              <a:off x="816120" y="4216320"/>
              <a:ext cx="2611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0" bIns="45360" anchor="t">
              <a:spAutoFit/>
            </a:bodyPr>
            <a:p>
              <a:pPr algn="ctr">
                <a:lnSpc>
                  <a:spcPts val="2373"/>
                </a:lnSpc>
                <a:spcBef>
                  <a:spcPts val="876"/>
                </a:spcBef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16120" y="421632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6120" y="452124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6F8D-D053-4031-9765-519C6C0E5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5594-6FAB-4C5B-BD92-D71CBFB0E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6244-4455-404D-8361-D6B82D6D7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B023-C5C7-487A-B245-CF6D34032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086E-99DE-406A-B47C-FCBC7DF2C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CFA5-8A4C-46EB-B2BA-A7567D3B5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84F1-316C-4165-B7EA-4A50E9918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6280-C43D-4C9F-A87F-C75DD46CC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CB65-12F0-4F50-BFD2-0C85174A8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622F8-4874-411F-8CE5-B864DD4A9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F323-C050-4DE9-AEE5-F36A0E184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3D2C-D089-4FAF-B809-6105E2AC1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3619440" y="6568200"/>
            <a:ext cx="19051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145AD6F8-106E-4F63-A227-4371699F5B4D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5240" y="149400"/>
            <a:ext cx="8813520" cy="2654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emens Mobile Phones</a:t>
            </a:r>
            <a:br>
              <a:rPr sz="3200"/>
            </a:br>
            <a:r>
              <a:rPr b="1" lang="en-GB" sz="3200" spc="-1" strike="noStrike">
                <a:solidFill>
                  <a:srgbClr val="9e1d3e"/>
                </a:solidFill>
                <a:latin typeface="Arial"/>
              </a:rPr>
              <a:t>CFX65  Product details &amp;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July 2004 Christoph Boeing &amp; Matthias Wiltink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85840" y="1125360"/>
            <a:ext cx="702288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hotop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hotopet is a cute character in the style of a Japanese Manga. He is hi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wner's constant companion and requires regular c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Photopet has various demands which must be fulfilled by his owner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owner performs these actions (e.g. feeding) by taking snapshot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se are analysed by the game engine which then decides what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magochi actually gets (e.g., for dinner)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ubble Bo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ubble Boost is a typical jump-and-run game with multiple graphic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nvironm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target of the game is for Luki to free his friends from their imprison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bilok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biloko is an Arcade dance game. The game takes full advantage of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olyphonic music capabiliti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aim of Mobiloko is to make 'Mani' dance to the ringtone melody an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eep him in time with the beat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is new version of Mobiloko also enables the users to use their ow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hotos as game backgrou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410" t="0" r="0" b="901"/>
          <a:stretch/>
        </p:blipFill>
        <p:spPr>
          <a:xfrm>
            <a:off x="7068960" y="1128600"/>
            <a:ext cx="1878120" cy="1446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rcRect l="1154" t="2245" r="0" b="0"/>
          <a:stretch/>
        </p:blipFill>
        <p:spPr>
          <a:xfrm>
            <a:off x="7094520" y="2611440"/>
            <a:ext cx="1846440" cy="14605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s – Ga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rcRect l="0" t="0" r="0" b="610"/>
          <a:stretch/>
        </p:blipFill>
        <p:spPr>
          <a:xfrm>
            <a:off x="7095960" y="4108320"/>
            <a:ext cx="1847880" cy="1538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7E7D8-2E5C-40E0-B590-57ACDA70B7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ed problems &amp; Customer inquiries &amp; Latest 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8760" y="1125360"/>
            <a:ext cx="828828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ustomers might complain about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low and bad log on present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GSM noise during ca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CM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ery slow scrolling through men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ything else is not possible to speculate about as we have to wait for a (final) customer 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What else might be interesting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first really ‘useful’ software version is 4.024 but still with several bugs </a:t>
            </a:r>
            <a:r>
              <a:rPr b="0" lang="en-GB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Actual Software is 4.027 - all other software versions may deny incoming calls and have several other mainly severe bu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all Centre Monitor Version 1.07 will be implemented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minute of torch mode reduces standby time about 35 minu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attery have to be almost full to perform a software update. Otherwise the update does not start and no mess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8A13-FDA8-489F-9BD5-79CE35E52A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250920" y="184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252360" y="328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252360" y="479736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4645080" y="184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5080" y="328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5080" y="479736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943360" y="1579680"/>
            <a:ext cx="1701720" cy="437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B9361-597D-407E-9042-D0373988E0B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75000" y="1163520"/>
            <a:ext cx="1879560" cy="2387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102440" y="1163520"/>
            <a:ext cx="1879560" cy="2387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62000" y="1163520"/>
            <a:ext cx="1879560" cy="2387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788000" y="1160640"/>
            <a:ext cx="1879560" cy="2387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316240" y="3733920"/>
            <a:ext cx="4135320" cy="26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egrated LED flash &amp; torc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egrated VGA camer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ull MMS and messaging capabil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65k internal colour disp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olyphonic ring tones with 40 chor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hameleon colour eff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1291-8233-41B3-935E-3774E7C1ADF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14360" y="1947960"/>
            <a:ext cx="302256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Young, fashionable desig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tylish colour &amp; material fini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lamshell form with antenna lo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est value for mon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4360" y="4344840"/>
            <a:ext cx="3022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ull range of photo functionalities: Photo editor / messaging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und: 40 cho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200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4000" y="1413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2000" y="356076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080" y="380700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59440" y="5024520"/>
            <a:ext cx="278280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ar Kit Eas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ttachable fla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0708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900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07080" y="424008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59440" y="1947960"/>
            <a:ext cx="302256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egrated VGA 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egrated LED fla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isplay: 65k colors, CSTN (160 x 128) &amp; subdisplay (96 x 64), s/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xtensive Messaging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SMS, EMS, MMS, IM, E-mail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PRS Class 10, WAP 2.0, Java, Ir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4479840"/>
            <a:ext cx="968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705120" y="1251000"/>
            <a:ext cx="1717920" cy="479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D662-4DD5-4343-9681-926473F1999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43120" y="5443560"/>
            <a:ext cx="1457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mp-up Colour: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hamele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25440" y="5443560"/>
            <a:ext cx="1320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econd Colour: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lue Pearl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38320" y="1276200"/>
            <a:ext cx="2949480" cy="4127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57640" y="1276200"/>
            <a:ext cx="2949840" cy="412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5BD5-859D-4074-AA05-B4FD10BEBBA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4920" y="113976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56160" y="1387440"/>
            <a:ext cx="155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113976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88560" y="1387440"/>
            <a:ext cx="1492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562200" y="1471680"/>
            <a:ext cx="1711440" cy="4781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4360" y="1876320"/>
            <a:ext cx="3022560" cy="46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ight/Volume/Dimen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8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8cm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5 x48 x23 [mm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cl loop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7 x48 x23 [mm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l. loop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andby / Talk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p to 200 h / 200 mi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mera &amp; integrated 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ed VGA cam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ilt-in photo flash 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D flash can be used as to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splay &amp; Keyp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. display: 65k colours, 160x128 pixel – ext. display: 96x64 pix b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ndchip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40 ch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-Ion 600 mA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59440" y="1876320"/>
            <a:ext cx="302256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MS rel.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-mail (POP3)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net &amp; Connec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al-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r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PRS class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P 2.0, Java MIDP 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F5E4-9DF4-46C8-8739-F1792D962B9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200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31880" y="1165320"/>
            <a:ext cx="146844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00320" y="1165320"/>
            <a:ext cx="14716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41880" y="1165320"/>
            <a:ext cx="147024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1212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2000" y="208296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9600" y="2185920"/>
            <a:ext cx="84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ile Cas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CT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31880" y="2082960"/>
            <a:ext cx="14684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55640" y="2095560"/>
            <a:ext cx="14446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-Ion Batter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00 mAh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BA-6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00320" y="2082960"/>
            <a:ext cx="14716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24520" y="2185920"/>
            <a:ext cx="125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208296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97440" y="2185920"/>
            <a:ext cx="84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Eas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P-6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2082960"/>
            <a:ext cx="146988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73920" y="2185920"/>
            <a:ext cx="76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CA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31880" y="2654280"/>
            <a:ext cx="1468440" cy="57168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75240" y="2757600"/>
            <a:ext cx="101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vel Charge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C-500/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00320" y="2654280"/>
            <a:ext cx="1471680" cy="57168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30160" y="2757600"/>
            <a:ext cx="628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265428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14720" y="2757600"/>
            <a:ext cx="808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grade K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O-6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24720" y="3225960"/>
            <a:ext cx="146988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72120" y="3328920"/>
            <a:ext cx="76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CA-5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31880" y="3225960"/>
            <a:ext cx="14684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4960" y="3328920"/>
            <a:ext cx="118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C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31880" y="3797280"/>
            <a:ext cx="1468440" cy="57168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48320" y="399096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 Ch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54840" y="2095560"/>
            <a:ext cx="1469880" cy="571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21040" y="2185920"/>
            <a:ext cx="528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L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379728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45480" y="3900600"/>
            <a:ext cx="817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St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SC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3225960"/>
            <a:ext cx="146988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89440" y="3328920"/>
            <a:ext cx="107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Port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P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00320" y="3225960"/>
            <a:ext cx="147168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50880" y="3328920"/>
            <a:ext cx="98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Basic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1880" y="4368960"/>
            <a:ext cx="1468440" cy="57132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6640" y="4562640"/>
            <a:ext cx="109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sk Top 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81560" y="4892760"/>
            <a:ext cx="250920" cy="14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e1d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36080" y="4883400"/>
            <a:ext cx="1372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Supports Phone St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81560" y="5108400"/>
            <a:ext cx="250920" cy="14796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96120" y="5099400"/>
            <a:ext cx="222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ducts compatible with 55 series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81560" y="5326200"/>
            <a:ext cx="250920" cy="14760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96120" y="5316840"/>
            <a:ext cx="222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ducts compatible with 65 series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81560" y="5556240"/>
            <a:ext cx="250920" cy="14760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66320" y="5547240"/>
            <a:ext cx="802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32480" y="5794920"/>
            <a:ext cx="1495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24720" y="2660760"/>
            <a:ext cx="146988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97160" y="276372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able USB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CA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al Access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8640" y="1284120"/>
            <a:ext cx="1416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ashion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&amp; Car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99920" y="1398600"/>
            <a:ext cx="133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26520" y="1284120"/>
            <a:ext cx="1621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andsfree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00880" y="1284120"/>
            <a:ext cx="12110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ar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8320" y="1284120"/>
            <a:ext cx="11959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Multi-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ain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31640" y="1398600"/>
            <a:ext cx="12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8C6F-A1DC-44DA-97F1-6F4101F5B20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000" y="1125360"/>
            <a:ext cx="698472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adset with a high-value design for mobile handsfree us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t offers an optimised wearing comfort by holder and earpiece hinge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ke it easy – fixed small housing to connect phone and heads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t allows charging and phoning at the same time!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ync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 up to date – link your mobile phone to a PC with the Data Cable USB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d synchronise your data or transfer multimedia 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ttachable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hare moments in all lighting conditions, for example, at a party or in 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isco ... Indoor or low-light photo quality is greatly improved with 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ttachable flash.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ar Kit Eas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he Car Kit Easy allows convenient handsfree talking with high speec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uality by simply connecting the unit to the cigarette lighter socket (12V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nd inserting the mobile phone in the integrated holder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4960" t="0" r="4268" b="0"/>
          <a:stretch/>
        </p:blipFill>
        <p:spPr>
          <a:xfrm>
            <a:off x="7396200" y="1413000"/>
            <a:ext cx="1177920" cy="2663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al Access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997680" y="4437000"/>
          <a:ext cx="1652760" cy="136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97680" y="4437000"/>
                    <a:ext cx="165276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0037-C8DA-41A2-97DC-C57CC567FC0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1197000"/>
            <a:ext cx="629928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ersonalis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MS pictures, Ringtones, etc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t of Themes/Downloa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munity &amp; City Lif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stant Messaging Client (Wireless Village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hoto Edi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it Converter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 &amp; Entertain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bilok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hotop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ubble Bo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at Client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sed on Instant Messaging 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08800" y="1109520"/>
            <a:ext cx="1457280" cy="1152720"/>
          </a:xfrm>
          <a:prstGeom prst="rect">
            <a:avLst/>
          </a:prstGeom>
          <a:ln w="0">
            <a:noFill/>
          </a:ln>
        </p:spPr>
      </p:pic>
      <p:pic>
        <p:nvPicPr>
          <p:cNvPr id="239" name="afterpos3_import2" descr=""/>
          <p:cNvPicPr/>
          <p:nvPr/>
        </p:nvPicPr>
        <p:blipFill>
          <a:blip r:embed="rId3"/>
          <a:stretch/>
        </p:blipFill>
        <p:spPr>
          <a:xfrm>
            <a:off x="7281720" y="1719360"/>
            <a:ext cx="1455840" cy="1154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rcRect l="0" t="0" r="0" b="610"/>
          <a:stretch/>
        </p:blipFill>
        <p:spPr>
          <a:xfrm>
            <a:off x="5610240" y="2828880"/>
            <a:ext cx="1455840" cy="115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7253280" y="3281400"/>
          <a:ext cx="1398600" cy="13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3280" y="3281400"/>
                    <a:ext cx="139860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CABE-7671-4A01-BED9-1255790249A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Oliver Girke</dc:creator>
  <dc:description/>
  <dc:language>en-US</dc:language>
  <cp:lastModifiedBy> </cp:lastModifiedBy>
  <cp:lastPrinted>2004-02-23T20:18:27Z</cp:lastPrinted>
  <dcterms:modified xsi:type="dcterms:W3CDTF">2004-07-22T11:20:16Z</dcterms:modified>
  <cp:revision>315</cp:revision>
  <dc:subject/>
  <dc:title>PowerPoint Presentation</dc:title>
</cp:coreProperties>
</file>